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3E88-B05C-4E02-903E-0F9B257A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5BBA-5BAB-40B3-B636-AA4FF79D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8934-15B1-477D-80E4-8C0FC4995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920E-6A70-4551-BF6A-A6F1EB72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269-9A40-43CE-A1CC-3B979911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759-B04F-4AAC-862D-FDA53EDE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A7B-CC57-4502-848E-C64548C7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0B6-000C-4BC5-80CC-C5E16384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32F-E43D-4B12-A6CD-99BACF8D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B44-02C6-4802-8927-65EC49C1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FD4-01A3-43CA-8167-CDC4FB02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D0B-BC3E-4024-91A3-22C9B49D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8E1-CCFB-4AF9-952F-64737989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040-E4E4-4572-A41E-F05F24FE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184-408C-49E6-AC2A-D8ADDFFE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B17-733D-4AD0-90F4-17610CA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A966-C415-4B07-8297-3AB027EE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 Co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62" descr="ReverseLogo"/>
          <p:cNvPicPr/>
          <p:nvPr/>
        </p:nvPicPr>
        <p:blipFill>
          <a:blip r:embed="rId27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32720" y="1752480"/>
            <a:ext cx="50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water affec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plant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799280" y="1752480"/>
            <a:ext cx="619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lant was most success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terrarium and how di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it was success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12920" y="1752480"/>
            <a:ext cx="41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terrariu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13280" y="1752480"/>
            <a:ext cx="534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5 factors did you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create a terrariu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15080" y="1752480"/>
            <a:ext cx="61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id the nonliving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uence the living factor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rrarium?  Give an exa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214000" y="1752480"/>
            <a:ext cx="586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nvironmental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yed the biggest role in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growth? 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215440" y="1752480"/>
            <a:ext cx="563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actors might affec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your plants i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eated the investigation at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t time of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12200" y="1752480"/>
            <a:ext cx="445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14000" y="1752480"/>
            <a:ext cx="502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non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14720" y="1752480"/>
            <a:ext cx="536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germinat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33080" y="1752480"/>
            <a:ext cx="430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there living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39920" y="1752480"/>
            <a:ext cx="512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biotic and a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s?  Give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bo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14000" y="1752480"/>
            <a:ext cx="506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dormant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organ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12560" y="1752480"/>
            <a:ext cx="569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i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viabl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33080" y="1752480"/>
            <a:ext cx="431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wo exampl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s you may find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co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58440" y="1755720"/>
            <a:ext cx="637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one way humans inter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21880" y="1676520"/>
            <a:ext cx="671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co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examples of ecosyst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35960" y="1752480"/>
            <a:ext cx="490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humans helping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ting ecosystems? G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sons to support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s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217600" y="1752480"/>
            <a:ext cx="43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79520" y="1752480"/>
            <a:ext cx="50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grows below the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a pl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13280" y="1752480"/>
            <a:ext cx="549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water a living or non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?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Jessica Ortolf</cp:lastModifiedBy>
  <dcterms:modified xsi:type="dcterms:W3CDTF">2013-10-02T11:42:53Z</dcterms:modified>
  <cp:revision>17</cp:revision>
  <dc:subject/>
  <dc:title>Slide 1</dc:title>
</cp:coreProperties>
</file>