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E386A-A521-4400-B25C-20131F5399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3F45F-7CA4-4F28-8CFC-FC1762B09C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3B8A0-E1CE-4D5C-A4CA-EA788D505C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37DFA-2B09-44CD-82CB-4E956CDE81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6792D-71D6-4065-9037-40AD72832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599B4-F894-48E4-B57C-30E66FCA9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B5E8F-7F45-4EF3-BBAF-714DCF71E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09887-5D15-4EEF-ACF0-FAF7DEB4E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05403-1C80-4C45-A1CE-8F1D3D7AF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02C01-C56F-422D-ACFD-13D3082B3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0BEDF-56B1-43DC-83F7-2FD78FC12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F0FF9-B738-4BDF-921A-D32AA67DF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B200D-3E12-4FE1-852C-4E08474C6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C8F08-9E74-4627-8D2C-5D8D583DB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05CC2-E196-4621-8F1F-00B9F40C8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6D509-6967-41DB-87C3-AA98F4439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8F0D4-3F9A-4F0F-9848-0CD0F1304E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22.xml"/><Relationship Id="rId7" Type="http://schemas.openxmlformats.org/officeDocument/2006/relationships/slide" Target="slide3.xml"/><Relationship Id="rId8" Type="http://schemas.openxmlformats.org/officeDocument/2006/relationships/slide" Target="slide8.xml"/><Relationship Id="rId9" Type="http://schemas.openxmlformats.org/officeDocument/2006/relationships/slide" Target="slide13.xml"/><Relationship Id="rId10" Type="http://schemas.openxmlformats.org/officeDocument/2006/relationships/slide" Target="slide18.xml"/><Relationship Id="rId11" Type="http://schemas.openxmlformats.org/officeDocument/2006/relationships/slide" Target="slide23.xml"/><Relationship Id="rId12" Type="http://schemas.openxmlformats.org/officeDocument/2006/relationships/slide" Target="slide4.xml"/><Relationship Id="rId13" Type="http://schemas.openxmlformats.org/officeDocument/2006/relationships/slide" Target="slide9.xml"/><Relationship Id="rId14" Type="http://schemas.openxmlformats.org/officeDocument/2006/relationships/slide" Target="slide14.xml"/><Relationship Id="rId15" Type="http://schemas.openxmlformats.org/officeDocument/2006/relationships/slide" Target="slide19.xml"/><Relationship Id="rId16" Type="http://schemas.openxmlformats.org/officeDocument/2006/relationships/slide" Target="slide24.xml"/><Relationship Id="rId17" Type="http://schemas.openxmlformats.org/officeDocument/2006/relationships/slide" Target="slide5.xml"/><Relationship Id="rId18" Type="http://schemas.openxmlformats.org/officeDocument/2006/relationships/slide" Target="slide10.xml"/><Relationship Id="rId19" Type="http://schemas.openxmlformats.org/officeDocument/2006/relationships/slide" Target="slide15.xml"/><Relationship Id="rId20" Type="http://schemas.openxmlformats.org/officeDocument/2006/relationships/slide" Target="slide20.xml"/><Relationship Id="rId21" Type="http://schemas.openxmlformats.org/officeDocument/2006/relationships/slide" Target="slide25.xml"/><Relationship Id="rId22" Type="http://schemas.openxmlformats.org/officeDocument/2006/relationships/slide" Target="slide6.xml"/><Relationship Id="rId23" Type="http://schemas.openxmlformats.org/officeDocument/2006/relationships/slide" Target="slide11.xml"/><Relationship Id="rId24" Type="http://schemas.openxmlformats.org/officeDocument/2006/relationships/slide" Target="slide16.xml"/><Relationship Id="rId25" Type="http://schemas.openxmlformats.org/officeDocument/2006/relationships/slide" Target="slide21.xml"/><Relationship Id="rId26" Type="http://schemas.openxmlformats.org/officeDocument/2006/relationships/slide" Target="slide26.xml"/><Relationship Id="rId27" Type="http://schemas.openxmlformats.org/officeDocument/2006/relationships/image" Target="../media/image2.png"/><Relationship Id="rId2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60" descr="mels_question_md_blk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5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2592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cosystem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errarium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errarium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Vocabula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Vocabulary Cont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2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3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4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5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6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Picture 162" descr="ReverseLogo"/>
          <p:cNvPicPr/>
          <p:nvPr/>
        </p:nvPicPr>
        <p:blipFill>
          <a:blip r:embed="rId27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4"/>
          <p:cNvSpPr/>
          <p:nvPr/>
        </p:nvSpPr>
        <p:spPr>
          <a:xfrm>
            <a:off x="2232720" y="1752480"/>
            <a:ext cx="5092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ow does water affect th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rowth of plants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errarium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5" descr="purple_md_blk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4"/>
          <p:cNvSpPr/>
          <p:nvPr/>
        </p:nvSpPr>
        <p:spPr>
          <a:xfrm>
            <a:off x="1799280" y="1752480"/>
            <a:ext cx="6195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plant was most successfu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 the terrarium and how did yo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know it was successful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errarium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5" descr="purple_md_blk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4"/>
          <p:cNvSpPr/>
          <p:nvPr/>
        </p:nvSpPr>
        <p:spPr>
          <a:xfrm>
            <a:off x="2212920" y="1752480"/>
            <a:ext cx="4178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a terrariu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errarium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5" descr="purple_md_blk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4"/>
          <p:cNvSpPr/>
          <p:nvPr/>
        </p:nvSpPr>
        <p:spPr>
          <a:xfrm>
            <a:off x="2213280" y="1752480"/>
            <a:ext cx="5345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5 factors did you ne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o create a terrarium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errarium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5" descr="purple_md_blk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4"/>
          <p:cNvSpPr/>
          <p:nvPr/>
        </p:nvSpPr>
        <p:spPr>
          <a:xfrm>
            <a:off x="2215080" y="1752480"/>
            <a:ext cx="6193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ow did the nonliving fact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fluence the living factors i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terrarium?  Give an exampl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errarium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5" descr="purple_md_blk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4"/>
          <p:cNvSpPr/>
          <p:nvPr/>
        </p:nvSpPr>
        <p:spPr>
          <a:xfrm>
            <a:off x="2214000" y="1752480"/>
            <a:ext cx="58651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environmental fact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layed the biggest role in your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errariums growth?  Explai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errarium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5" descr="purple_md_blk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4"/>
          <p:cNvSpPr/>
          <p:nvPr/>
        </p:nvSpPr>
        <p:spPr>
          <a:xfrm>
            <a:off x="2215440" y="1752480"/>
            <a:ext cx="5633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factors might affect th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rowth of your plants if you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epeated the investigation at 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fferent time of year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errarium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5" descr="purple_md_blk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4"/>
          <p:cNvSpPr/>
          <p:nvPr/>
        </p:nvSpPr>
        <p:spPr>
          <a:xfrm>
            <a:off x="2212200" y="1752480"/>
            <a:ext cx="4458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a living thing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Vocabulary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5" descr="purple_md_blk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4"/>
          <p:cNvSpPr/>
          <p:nvPr/>
        </p:nvSpPr>
        <p:spPr>
          <a:xfrm>
            <a:off x="2214000" y="1752480"/>
            <a:ext cx="5027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a nonliving thing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Vocabulary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5" descr="purple_md_blk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4"/>
          <p:cNvSpPr/>
          <p:nvPr/>
        </p:nvSpPr>
        <p:spPr>
          <a:xfrm>
            <a:off x="2214720" y="1752480"/>
            <a:ext cx="5368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does germinate mea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Vocabulary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5" descr="purple_md_blk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4"/>
          <p:cNvSpPr/>
          <p:nvPr/>
        </p:nvSpPr>
        <p:spPr>
          <a:xfrm>
            <a:off x="2233080" y="1752480"/>
            <a:ext cx="4306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re there living th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 ecosystem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cosystem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6" descr="purple_md_blk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4"/>
          <p:cNvSpPr/>
          <p:nvPr/>
        </p:nvSpPr>
        <p:spPr>
          <a:xfrm>
            <a:off x="2239920" y="1752480"/>
            <a:ext cx="51260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are biotic and abioti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actors?  Give examp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f both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Vocabulary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5" descr="purple_md_blk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4"/>
          <p:cNvSpPr/>
          <p:nvPr/>
        </p:nvSpPr>
        <p:spPr>
          <a:xfrm>
            <a:off x="2214000" y="1752480"/>
            <a:ext cx="5065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does dormant mea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Vocabulary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5" descr="purple_md_blk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4"/>
          <p:cNvSpPr/>
          <p:nvPr/>
        </p:nvSpPr>
        <p:spPr>
          <a:xfrm>
            <a:off x="2212560" y="1752480"/>
            <a:ext cx="5575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an organis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Vocabulary Cont.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5" descr="purple_md_blk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4"/>
          <p:cNvSpPr/>
          <p:nvPr/>
        </p:nvSpPr>
        <p:spPr>
          <a:xfrm>
            <a:off x="2212560" y="1752480"/>
            <a:ext cx="5575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an environmen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Vocabulary Cont.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" descr="purple_md_blk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4"/>
          <p:cNvSpPr/>
          <p:nvPr/>
        </p:nvSpPr>
        <p:spPr>
          <a:xfrm>
            <a:off x="2212560" y="1752480"/>
            <a:ext cx="5690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an environmental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actor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Vocabulary Cont. 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5" descr="purple_md_blk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4"/>
          <p:cNvSpPr/>
          <p:nvPr/>
        </p:nvSpPr>
        <p:spPr>
          <a:xfrm>
            <a:off x="2212560" y="1752480"/>
            <a:ext cx="5575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a biom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Vocabulary Cont.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5" descr="purple_md_blk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4"/>
          <p:cNvSpPr/>
          <p:nvPr/>
        </p:nvSpPr>
        <p:spPr>
          <a:xfrm>
            <a:off x="2212560" y="1752480"/>
            <a:ext cx="5575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does viable mea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Vocabulary Cont.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5" descr="purple_md_blk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4"/>
          <p:cNvSpPr/>
          <p:nvPr/>
        </p:nvSpPr>
        <p:spPr>
          <a:xfrm>
            <a:off x="2233080" y="1752480"/>
            <a:ext cx="43185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ive two examples of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ings you may find 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n ecosystem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cosystem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purple_md_blk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4"/>
          <p:cNvSpPr/>
          <p:nvPr/>
        </p:nvSpPr>
        <p:spPr>
          <a:xfrm>
            <a:off x="1558440" y="1755720"/>
            <a:ext cx="6372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one way humans interac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ith ecosystem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cosystem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5" descr="purple_md_blk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4"/>
          <p:cNvSpPr/>
          <p:nvPr/>
        </p:nvSpPr>
        <p:spPr>
          <a:xfrm>
            <a:off x="821880" y="1676520"/>
            <a:ext cx="6717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an ecosyste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Name two examples of ecosystem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cosystem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5" descr="purple_md_blk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4"/>
          <p:cNvSpPr/>
          <p:nvPr/>
        </p:nvSpPr>
        <p:spPr>
          <a:xfrm>
            <a:off x="2235960" y="1752480"/>
            <a:ext cx="49021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re humans helping 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urting ecosystems? Gi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easons to support your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nswer.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cosystems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purple_md_blk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4"/>
          <p:cNvSpPr/>
          <p:nvPr/>
        </p:nvSpPr>
        <p:spPr>
          <a:xfrm>
            <a:off x="2217600" y="1752480"/>
            <a:ext cx="4356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a garde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errariums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5" descr="purple_md_blk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4"/>
          <p:cNvSpPr/>
          <p:nvPr/>
        </p:nvSpPr>
        <p:spPr>
          <a:xfrm>
            <a:off x="2279520" y="1752480"/>
            <a:ext cx="5080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grows below the soi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n a plan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errariums 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5" descr="purple_md_blk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4"/>
          <p:cNvSpPr/>
          <p:nvPr/>
        </p:nvSpPr>
        <p:spPr>
          <a:xfrm>
            <a:off x="2213280" y="1752480"/>
            <a:ext cx="5497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s water a living or nonliv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ing? Explai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errariums 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purple_md_blk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Jessica Ortolf</cp:lastModifiedBy>
  <dcterms:modified xsi:type="dcterms:W3CDTF">2013-10-02T11:42:53Z</dcterms:modified>
  <cp:revision>17</cp:revision>
  <dc:subject/>
  <dc:title>Slide 1</dc:title>
</cp:coreProperties>
</file>